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DA4-925C-4F2F-8AE9-12D5059E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CA1-4386-4B62-ACAB-C964A304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0683-A74E-4CCA-BBFE-87198AD7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A58D-45E4-4409-85F6-3E3A9DF1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3BC-C98F-4977-A373-127C5A1F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02A3-AE7A-404B-8E83-00B8874C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4FFB-249E-4574-8FAB-40541661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855-E548-422D-B3E3-B2AC8629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CB1-5F30-472C-8580-3F1FE500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96C-667F-4C4C-9822-FDB8B61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43D-3B24-4329-B87D-98C9C9A6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3A4-E1A8-4E2F-AF1E-D2D1F923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144-C409-4DB2-B9CE-EEF3A0EB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748-9A5F-4A92-85DC-605443D3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2179-6E03-45AD-844A-AEA8255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E92C-FBB5-4D55-BDF2-B9627832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0223-0F82-4030-B1E2-CBDCAC2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CC4-064A-4FF0-B0AB-C6F0FF3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46F-7FB5-488B-B2B6-E566A94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66E-685F-4AC5-8FAE-ED2D393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E36-B5BB-4F56-BA04-A238F42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96D8-B4DC-4E02-9EA0-1D57AA9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1A1-DBC4-465F-958B-B713D3D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E75-4FCF-40DD-B7BA-E5FCB24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005-78D0-490C-B97D-AA5E7420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4323-3C5A-4160-85FE-C94FCED6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6A37-FD9D-46D1-AF78-C384985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A264-F638-4047-B5A2-820B5A8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22F1-A0B4-414E-AD00-CB7D12F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3238-337A-4A77-85A9-D3AB116B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D04-14A6-4A46-9193-221F1CA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A979-2FFB-4EA0-929E-BA31DB9B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D1E8-C9A5-48FE-B449-7FB799E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19A9-4EBA-44C1-B932-E5FD940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7322-2A72-4632-BF79-91DB53E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99E7-6592-4E39-BC0B-DED4D73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EEB71-8B54-4A47-8D5E-072E6BFE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786E-3644-4288-9F38-1D6AA052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7D50-3114-403E-A502-9E19D65F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7670-AE77-493B-93D8-13FF581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58B5-E783-40FE-962B-40BE7B4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ABB-D5E5-4CD2-8749-0160AEC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ACF0-CCC9-43A9-8350-9DE933E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6503-5E75-4038-834B-56D24C8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DE8D-C1A8-4F78-B2BF-94A08F81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E4BB9-959E-4433-9964-4B4D9A3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A4BD-FD8C-4AB9-BF34-0939905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6926-5833-48AB-BA91-809B7411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2863-966D-4836-958D-C4C20EBC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2B40-1C3A-4482-B073-2F83DC87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FEA1-10F7-4C0A-B078-53E6E41C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E297-EBA0-4474-993D-5434A5E1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75D-644D-4F26-A7AA-4244D264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0E344-9B03-41E1-B1E7-623D8A48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6EC9-17E6-4181-A8BF-D8A0F245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4372-3573-48FB-9FB3-8A79F6F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0420-1C01-4274-A6E4-DE20AC1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6751-95EA-4814-A6CF-3AB6CFB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169BF-EFF2-467F-8117-8A7000D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649D-B9F7-4AB0-99CE-1927EE2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534B-599C-4576-87B2-CE26A0E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255B-FB7A-4FB5-9676-DD73F72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52AA-256C-4E5A-8F40-9FC1DA0E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586-0FE7-4BAD-8758-0CF7660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195A-EA29-43A2-ADFF-DE65D94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C12D-08FB-4DA1-8B38-87195CC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8CC8-E904-4B4E-BF3C-742E894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5B46-8A60-457E-BE2A-24096B4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1D88-A703-4AF4-BF5C-D0A9FD6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DC5F-92D7-4CBB-B19A-9678AD7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585D-6F7C-4ABE-B233-777A35B2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A50F-ABB9-4345-B223-8BF826E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C0C7-A167-4E5D-8466-687EB29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FE2B7-6268-4391-AEAE-3B56DC1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21E-5AC9-485A-AC75-4E257B2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1E2B-79C7-48E7-B530-948A197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B4CE-BF75-400B-A979-9817C8AE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8EBC-74BA-41DA-8E53-D5B4263B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EA1E-7B05-41A9-BE9B-3837FFE6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F644-B73B-433C-BE25-19E56347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0051-9FFA-43A4-BAF0-9D0A2B09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8283-1785-4568-A249-1D1C6B71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D0514-1112-43CE-99AB-809CE8B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7FC5-E996-40B0-891D-2C10886F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41A3-9AB5-4814-A964-5E5E2DC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5AE-0923-49F7-9BF2-199974B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3C9E-E955-469B-861F-EC826D3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ECBE-65E8-4C23-8061-531FBE0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3FE60-0E60-4733-8F2B-FF2E8CAF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E7E3-379F-4549-89EA-7508CB9C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D5F7-300C-40AD-83B0-FD1964C3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A7D-0980-4088-B9E8-96266DC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C500-644E-4F80-8A8E-23AD3F73AF1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2F6F-CD90-4332-9BBE-C26C070E76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C080-41B7-4DFF-A98D-D3D60B0AE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208-383D-408E-9893-65144C6777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31C-D22E-4925-A255-DEE39C61FD0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CF38-6B09-4196-9433-775A209F075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B1C-EDD5-49DD-B284-9B5D75E9DB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Rhetorical Précis Mod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rgument is a claim an author makes about how things are and/or ought to b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rgument is supported by evide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idence comes in various forms such as: research, statistics, examples, personal experience, stories, quotes, et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counts as evidence varies according to the context of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 kind of summary of a writer’s or speaker’s argument and evidence…an abstract of someone else’s wor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your explanation of how you understand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establishes the foundation for your response to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usually a single paragraph that contains four sentences or poi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9144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me of auth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 and title of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hetorical verb (asserts, argues, claims, suggests, 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ption of author’s thesis/argu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382240" cy="1169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9144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/They/The author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pport this (noun version of rhetorical verb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ain, in order, the support (evidence, examples, proof, etc.) the authors us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9144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hor’s las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rpose is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ain your opinion of the author’s purpos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144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tone of wri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target audi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mplate: (Author) writes in a (description) tone for (target audience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6:10:18Z</dcterms:created>
  <dc:creator>Staff</dc:creator>
  <dc:description/>
  <dc:language>en-US</dc:language>
  <cp:lastModifiedBy>michelle.clark-cadwe</cp:lastModifiedBy>
  <dcterms:modified xsi:type="dcterms:W3CDTF">2012-10-10T16:15:26Z</dcterms:modified>
  <cp:revision>296</cp:revision>
  <dc:subject/>
  <dc:title>Argument Analysis</dc:title>
</cp:coreProperties>
</file>